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5D6-7C38-454C-9675-DE57506E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5424-F0C6-4208-B047-34C8D714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3F9-9163-479C-9C27-0E367D43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FE3-35A0-490A-89FF-4F015D4B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9F2-725D-4608-ACDA-9AB37AA2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A29-FA70-49A8-9FA1-F917D5C1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A33-55B0-4A3C-8B33-10496DF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169-188E-46DF-ACB8-4485755A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21F-636A-4B7C-BE34-C74A097B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6F8-0BAA-441F-AD94-A26E328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9AC-2D3A-4EAC-B909-4E33F8C3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C79-C69A-4222-9D67-D2942AE1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6532-1ED1-496E-BE40-F9925B43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ufobike/2675730629/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flickr.com/photos/dripper/2205848549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YOUR WASTED  WATER GOES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Jennifer Daoud and Jennapher khouza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3333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YCLE OF A WATER DROP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6" name=""/>
          <p:cNvGrpSpPr/>
          <p:nvPr/>
        </p:nvGrpSpPr>
        <p:grpSpPr>
          <a:xfrm>
            <a:off x="5244840" y="2104560"/>
            <a:ext cx="964080" cy="1091160"/>
            <a:chOff x="5244840" y="2104560"/>
            <a:chExt cx="964080" cy="1091160"/>
          </a:xfrm>
        </p:grpSpPr>
        <p:sp>
          <p:nvSpPr>
            <p:cNvPr id="47" name="_s3150"/>
            <p:cNvSpPr/>
            <p:nvPr/>
          </p:nvSpPr>
          <p:spPr>
            <a:xfrm>
              <a:off x="5244840" y="2104560"/>
              <a:ext cx="964080" cy="10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170440" y="1912320"/>
            <a:ext cx="4441680" cy="4316400"/>
            <a:chOff x="2170440" y="1912320"/>
            <a:chExt cx="4441680" cy="4316400"/>
          </a:xfrm>
        </p:grpSpPr>
        <p:sp>
          <p:nvSpPr>
            <p:cNvPr id="49" name="_s3169"/>
            <p:cNvSpPr/>
            <p:nvPr/>
          </p:nvSpPr>
          <p:spPr>
            <a:xfrm>
              <a:off x="3119760" y="1912320"/>
              <a:ext cx="2546640" cy="3071880"/>
            </a:xfrm>
            <a:custGeom>
              <a:avLst/>
              <a:gdLst>
                <a:gd name="textAreaLeft" fmla="*/ 0 w 2546640"/>
                <a:gd name="textAreaRight" fmla="*/ 2547000 w 2546640"/>
                <a:gd name="textAreaTop" fmla="*/ 0 h 3071880"/>
                <a:gd name="textAreaBottom" fmla="*/ 3072240 h 307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170"/>
            <p:cNvSpPr/>
            <p:nvPr/>
          </p:nvSpPr>
          <p:spPr>
            <a:xfrm rot="7200000">
              <a:off x="3205440" y="2905560"/>
              <a:ext cx="3071880" cy="2546640"/>
            </a:xfrm>
            <a:custGeom>
              <a:avLst/>
              <a:gdLst>
                <a:gd name="textAreaLeft" fmla="*/ 0 w 3071880"/>
                <a:gd name="textAreaRight" fmla="*/ 3072240 w 3071880"/>
                <a:gd name="textAreaTop" fmla="*/ 0 h 2546640"/>
                <a:gd name="textAreaBottom" fmla="*/ 2547000 h 254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172"/>
            <p:cNvSpPr/>
            <p:nvPr/>
          </p:nvSpPr>
          <p:spPr>
            <a:xfrm rot="14400000">
              <a:off x="2504880" y="2901240"/>
              <a:ext cx="3071880" cy="2546640"/>
            </a:xfrm>
            <a:custGeom>
              <a:avLst/>
              <a:gdLst>
                <a:gd name="textAreaLeft" fmla="*/ 0 w 3071880"/>
                <a:gd name="textAreaRight" fmla="*/ 3072240 w 3071880"/>
                <a:gd name="textAreaTop" fmla="*/ 0 h 2546640"/>
                <a:gd name="textAreaBottom" fmla="*/ 2547000 h 254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67"/>
            <p:cNvSpPr/>
            <p:nvPr/>
          </p:nvSpPr>
          <p:spPr>
            <a:xfrm>
              <a:off x="5088960" y="2474280"/>
              <a:ext cx="10202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168"/>
            <p:cNvSpPr/>
            <p:nvPr/>
          </p:nvSpPr>
          <p:spPr>
            <a:xfrm>
              <a:off x="3885120" y="4998240"/>
              <a:ext cx="102096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1"/>
            <p:cNvSpPr/>
            <p:nvPr/>
          </p:nvSpPr>
          <p:spPr>
            <a:xfrm>
              <a:off x="2673720" y="2480760"/>
              <a:ext cx="1020240" cy="12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88000" y="3933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16280"/>
            <a:ext cx="45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first or maybe the hundred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ginning is out the tap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there it g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Bike Eating Storm Drain Replaced on 99W and SW Hall, Tigard by KTesh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2708280"/>
            <a:ext cx="917640" cy="1224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ycle Track at Holderness Drain by music0ma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5157720"/>
            <a:ext cx="1008360" cy="1160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0" y="2924280"/>
            <a:ext cx="223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goe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drainage  system 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es down to the d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02:48:15Z</dcterms:created>
  <dc:creator>jennapher.khouzame</dc:creator>
  <dc:description/>
  <dc:language>en-US</dc:language>
  <cp:lastModifiedBy>jennapher.khouzame</cp:lastModifiedBy>
  <dcterms:modified xsi:type="dcterms:W3CDTF">2009-08-04T02:24:34Z</dcterms:modified>
  <cp:revision>4</cp:revision>
  <dc:subject/>
  <dc:title>WHERE YOUR WASTED  WATER GOES…….</dc:title>
</cp:coreProperties>
</file>